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3F7C-0022-4D19-B8CC-D9C6E2D3F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5EB9-E2B3-4BB6-B0B6-969A523BA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98D7-B630-40B1-A75D-7CD7B663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944C-444C-4347-B323-C58040BB1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8624-0970-466B-8D4A-646C08C0FE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DBDA-EAAC-438A-92DC-C0CFB6C13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D8E0-9540-47AE-9627-E6350987D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1000-4053-44FA-ADC6-E7034C862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5E4E-DCFA-47D7-A02A-9DBFC00E7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3C3A-2B3D-4B75-BE0F-C59C803365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161D-4FB1-457C-9986-E93D015C2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542E-219A-449C-8EA1-2DC62557A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C40C-5F8D-4F7A-97B8-AD98FE277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18BB-1A79-4071-964E-43CC3B0DD2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EE34-955A-4668-A15E-8F0D12C15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5408-971B-4243-A094-69D34A02FC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C911-0F31-42B5-BEB5-9DBB3B538E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8C6-5C56-4981-933B-775A94CED2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608-785E-480B-8250-9A49C7AB33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3C4-7338-47B7-AABC-E520B97FA1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737-6C86-4BA3-8803-FF837A0D4F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EB8-19F2-496A-80D4-D416C3CF5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8BBF-B25B-4884-B1CA-72CB52BCE9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373-89A4-4320-974A-8F983A31A8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B61-7AD7-456F-A98F-58D4EBAD26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31-95EF-4E9B-B823-A55339F457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DD6-B93F-48C4-9BF9-CB1F587F25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5DA-FB92-4519-B955-D22F647B6C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3BB-6FB2-4164-BC0B-14A1DB4F18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A64-34C8-4636-9CDF-510D7A7D74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D115-B8EF-4FBC-9D00-B0B7D14444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5DFB6-5F0C-4108-A15A-37BBF54D04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B03D1-3C1D-4320-B1F9-847B1AF58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E9B-249A-43F2-8E42-A1B7C2C222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7ED2D-9184-4FE9-8EB3-6BB7106B0F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79B07-6D20-4E15-9AAD-3E3219513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1A1BE-5FEE-43FF-8504-11589CEA36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BA96C-601C-4882-86A8-C8BFD0D421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EAE76-9D1C-4E50-820F-427C633892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A0B8-7566-4FB0-B62F-A0F4C951E3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A1B9-313C-4D6F-A2D1-A4A47EFCD6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FC370-D3B2-4550-ACDA-8BDF8EDC7C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5A62C-84C8-4D2C-8FDD-367480ABA8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AE9C-E592-4822-A983-4AC95409F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D992-5A19-44ED-8EE2-110766D442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C49C8-011A-46B1-BBD2-1A3055701A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B4334-6C24-4B24-994E-666B94C9E2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D7D7-4D20-43AA-AE9B-EF796D49D9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8EFBE-6931-4B36-879D-1A5E6FD4A9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DAB51-0841-4C53-A391-495470ED3E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D7C37-F6E5-4F3D-B2FF-B47FC8293D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DE0E8-76F9-4DA5-8205-F673BF6B2E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37290-613E-4257-B669-B5C880D8CF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4326F-A1C4-43CB-8E5E-D8F6AADBB0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4727-0914-412F-A5C9-59E18AA95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A553-D82B-48B0-B40B-4D916E782C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3551-FEFF-4539-ADB9-504F231ED5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BD40-FFE4-418A-995C-752A0BC1D0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5CE8-B052-48AB-B9C9-0D8678F210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184B-8DC2-41F7-AF30-2EB9114B7F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9B8-6E90-4036-9154-99344AA279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08CF-01B1-415A-A376-A02E97B662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EFD-F2B2-4183-8FB6-470A79A122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9583-CE9E-411A-8FFB-54A76545AA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037-8C49-4379-8E78-FA79482E3F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8841-A7D7-44D3-9806-DB0BA5650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3923-44E0-42D0-94E8-F44D9D759A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D840-E0A7-4091-AD87-146116C70B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38C8-8125-459B-ACD3-3B3BD919C0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A797-3E9E-4249-8E82-2FF282604D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D42C1-54E2-4899-89F8-A9113E15F3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190DA-B5EC-46C4-892D-158AF02923A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1437D-3840-4685-B536-F407F5E514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CB320-0137-47E5-A3D9-730754C192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E373C-7A19-4EC0-B15A-66198D0432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D77CA-0841-4A3D-BD36-E526A0802C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27A0B-957B-4952-BFCD-67FC92315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B9C5-6FAB-4539-BB8F-2C64DA272B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7EAE3-F1EB-4E43-AC3A-6E8538E392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A6D47-378D-420E-B5A6-699EEBB68A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5E7F0-B03D-4498-B7C7-00E2DE13E4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0B65A-C3EC-4DC3-94DA-09BA71FB4C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81805-8CB6-4FE3-81DA-CECA36BA5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A744-61E2-400A-8081-2BBDE6DFE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1F4-169E-4591-9DAF-91E58F84B84B}" type="slidenum">
              <a:rPr b="0" lang="e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485-2403-4F43-BC60-87B0489E7E2D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EE07-5B9B-4014-978E-A88857052752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58AD-8242-490F-9125-62EC1AAD12FB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1B83-CB9C-494D-93E2-CA46331AE301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E036-1C20-4EB2-A48F-871CD5339CB9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36D-E9E2-4696-88FF-083503599377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hape 30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74" name="Shape 31" descr=""/>
          <p:cNvPicPr/>
          <p:nvPr/>
        </p:nvPicPr>
        <p:blipFill>
          <a:blip r:embed="rId2"/>
          <a:stretch/>
        </p:blipFill>
        <p:spPr>
          <a:xfrm>
            <a:off x="4834080" y="995400"/>
            <a:ext cx="3870360" cy="2903400"/>
          </a:xfrm>
          <a:prstGeom prst="rect">
            <a:avLst/>
          </a:prstGeom>
          <a:ln w="0">
            <a:noFill/>
          </a:ln>
        </p:spPr>
      </p:pic>
      <p:sp>
        <p:nvSpPr>
          <p:cNvPr id="275" name="Shape 32"/>
          <p:cNvSpPr/>
          <p:nvPr/>
        </p:nvSpPr>
        <p:spPr>
          <a:xfrm>
            <a:off x="171360" y="884160"/>
            <a:ext cx="46627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Today’s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No Launch :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BrainPop - Energy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M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Quick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Foldab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e will begin if time al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rap up + ro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hape 33"/>
          <p:cNvSpPr/>
          <p:nvPr/>
        </p:nvSpPr>
        <p:spPr>
          <a:xfrm>
            <a:off x="22320" y="3639960"/>
            <a:ext cx="9099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Imprima"/>
                <a:ea typeface="Imprima"/>
              </a:rPr>
              <a:t>Notebook Setup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Imprima"/>
                <a:ea typeface="Imprima"/>
              </a:rPr>
              <a:t>Date                                      Topic/Activity                                   Pag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Imprima"/>
                <a:ea typeface="Imprima"/>
              </a:rPr>
              <a:t>2.19.15          Energy Resources: Renewable vs. Nonrenewable            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hape 38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78" name="Shape 39" descr=""/>
          <p:cNvPicPr/>
          <p:nvPr/>
        </p:nvPicPr>
        <p:blipFill>
          <a:blip r:embed="rId2"/>
          <a:stretch/>
        </p:blipFill>
        <p:spPr>
          <a:xfrm>
            <a:off x="247680" y="1044720"/>
            <a:ext cx="84312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Shape 44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80" name="Shape 45" descr=""/>
          <p:cNvPicPr/>
          <p:nvPr/>
        </p:nvPicPr>
        <p:blipFill>
          <a:blip r:embed="rId2"/>
          <a:stretch/>
        </p:blipFill>
        <p:spPr>
          <a:xfrm>
            <a:off x="0" y="995400"/>
            <a:ext cx="914400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Shape 50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sp>
        <p:nvSpPr>
          <p:cNvPr id="282" name="Shape 51"/>
          <p:cNvSpPr/>
          <p:nvPr/>
        </p:nvSpPr>
        <p:spPr>
          <a:xfrm>
            <a:off x="63360" y="243000"/>
            <a:ext cx="340992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Fold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Use the words with </a:t>
            </a:r>
            <a:r>
              <a:rPr b="1" lang="en" sz="2000" spc="-1" strike="noStrike">
                <a:solidFill>
                  <a:srgbClr val="ff9900"/>
                </a:solidFill>
                <a:latin typeface="Imprima"/>
                <a:ea typeface="Imprima"/>
              </a:rPr>
              <a:t>ORANGE STARS</a:t>
            </a: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 on the 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hen opening each tab, write d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a descri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an example or exam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Pros (at least 2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Cons (at least 2 ea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draw a small 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 </a:t>
            </a: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Use the coach book to assis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Shape 52" descr=""/>
          <p:cNvPicPr/>
          <p:nvPr/>
        </p:nvPicPr>
        <p:blipFill>
          <a:blip r:embed="rId2"/>
          <a:srcRect l="0" t="18228" r="3735" b="8982"/>
          <a:stretch/>
        </p:blipFill>
        <p:spPr>
          <a:xfrm>
            <a:off x="6724800" y="750960"/>
            <a:ext cx="2342880" cy="2361960"/>
          </a:xfrm>
          <a:prstGeom prst="rect">
            <a:avLst/>
          </a:prstGeom>
          <a:ln w="0">
            <a:noFill/>
          </a:ln>
        </p:spPr>
      </p:pic>
      <p:pic>
        <p:nvPicPr>
          <p:cNvPr id="284" name="Shape 53" descr=""/>
          <p:cNvPicPr/>
          <p:nvPr/>
        </p:nvPicPr>
        <p:blipFill>
          <a:blip r:embed="rId3"/>
          <a:stretch/>
        </p:blipFill>
        <p:spPr>
          <a:xfrm>
            <a:off x="3816360" y="995400"/>
            <a:ext cx="3208320" cy="414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CS Student</dc:creator>
  <dc:description/>
  <dc:language>en-US</dc:language>
  <cp:lastModifiedBy>LCS Student</cp:lastModifiedBy>
  <dcterms:modified xsi:type="dcterms:W3CDTF">2015-11-24T20:32:03Z</dcterms:modified>
  <cp:revision>1</cp:revision>
  <dc:subject/>
  <dc:title>Slide 1</dc:title>
</cp:coreProperties>
</file>